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859-9675-43A0-A913-7814B5CE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9C8-1D8C-4CF6-BD2E-0C07901D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9ED-4ADE-4F0B-A5BA-DD6FD73F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849-B0FD-4208-B77A-184C0694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6B7C-9FC5-42BE-85E4-57607A8D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C603-177C-458E-B253-02E345C1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2EFA-8553-4027-BE53-FF69AC8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D974-1E60-4E48-991E-DCC21C42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5EED-58AF-453D-90D7-38DC10A4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F2BC-5461-44B1-9E4B-EE1F66B0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45F5-D4EA-4EA5-B8BC-7AA9E0B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A63-BF0B-42AD-B24D-44D8471A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4A2B-F2D5-4BD1-9984-549F31E8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D25-EB48-4A8E-A31F-BDE17928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40D8-8AC2-4E84-A89C-8128F9C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76B0-2928-4D13-A723-8C004151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6966-7A68-459A-B86B-D0A5962F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FD5-E68A-4A05-AE36-2C03398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71F-2D65-429D-AE5B-18F1DC2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9D7-AC33-41DD-9616-C4BA62F3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11E-538B-4570-9566-A2F650CB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442-B2AD-4091-9694-B3F04FA6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6B8-CF51-4BCE-B419-D8B5FF5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409-FB8C-46C4-BD7F-12C5FFB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8C6-3A86-46D2-89E8-0DCAD02463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C87D-8897-4382-AA5A-B183692FAE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1146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ные итоги пилотного обследования «Семья и рождаемост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5000" y="4191120"/>
            <a:ext cx="776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Заместитель начальника Управления статистики нас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Федеральной службы государственной статис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ТОНОВА О.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5296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5288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82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82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1440" cy="51354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388620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04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й семинар «Низкая рождаемость в Российской Федерации: вызовы и стратегические подходы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46656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438280"/>
            <a:ext cx="668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720" y="635472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йд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причин снижения рождаемости в зависимости от условий жизни, социального положения и состава семь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причин распространенности абортов вместо современных средств контрацеп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отношения семей к различным мерам демографической политик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е репродуктивного здоровья насел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ие тенденций в системе внутрисемейны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системы ценностных ориентаций на семью и детей, мотивации семейн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ли обследования «Семья и рождаемос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46656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438280"/>
            <a:ext cx="668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89720" y="635472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08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19080" y="461880"/>
          <a:ext cx="918216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461880"/>
                    <a:ext cx="918216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77160" y="1585800"/>
            <a:ext cx="190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понденты (чел.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ужчины – 3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енщины – 48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ростки - 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2520" y="533520"/>
            <a:ext cx="673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е ожидаемое число детей в зависим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оценки уровня жизни семьи и желаемого числа дете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31040" y="63244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йд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36680" y="1555920"/>
            <a:ext cx="8270640" cy="4464000"/>
            <a:chOff x="436680" y="1555920"/>
            <a:chExt cx="8270640" cy="4464000"/>
          </a:xfrm>
        </p:grpSpPr>
        <p:grpSp>
          <p:nvGrpSpPr>
            <p:cNvPr id="127" name=""/>
            <p:cNvGrpSpPr/>
            <p:nvPr/>
          </p:nvGrpSpPr>
          <p:grpSpPr>
            <a:xfrm>
              <a:off x="441360" y="1560600"/>
              <a:ext cx="8261280" cy="4454640"/>
              <a:chOff x="441360" y="1560600"/>
              <a:chExt cx="8261280" cy="44546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441360" y="1560600"/>
                <a:ext cx="4603680" cy="2349360"/>
                <a:chOff x="441360" y="1560600"/>
                <a:chExt cx="4603680" cy="2349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12640" y="1560600"/>
                  <a:ext cx="4461120" cy="23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Оценка уровня жизни семьи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в баллах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41360" y="1560600"/>
                  <a:ext cx="4603680" cy="23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045040" y="1560600"/>
                <a:ext cx="3657600" cy="946080"/>
                <a:chOff x="5045040" y="1560600"/>
                <a:chExt cx="3657600" cy="946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116680" y="1560600"/>
                  <a:ext cx="35146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реднее ожидаемое число детей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ри желаемом числе детей: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045040" y="1560600"/>
                  <a:ext cx="3657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045040" y="2506680"/>
                <a:ext cx="1828800" cy="701640"/>
                <a:chOff x="5045040" y="2506680"/>
                <a:chExt cx="1828800" cy="7016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116680" y="2506680"/>
                  <a:ext cx="1685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Женщин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045040" y="2506680"/>
                  <a:ext cx="18288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873840" y="2506680"/>
                <a:ext cx="1828800" cy="701640"/>
                <a:chOff x="6873840" y="2506680"/>
                <a:chExt cx="1828800" cy="701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945480" y="2506680"/>
                  <a:ext cx="1685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Мужчин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873840" y="2506680"/>
                  <a:ext cx="18288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045040" y="3208320"/>
                <a:ext cx="682560" cy="701640"/>
                <a:chOff x="5045040" y="3208320"/>
                <a:chExt cx="682560" cy="7016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116680" y="3208320"/>
                  <a:ext cx="539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45040" y="320832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27600" y="3208320"/>
                <a:ext cx="1146240" cy="701640"/>
                <a:chOff x="5727600" y="3208320"/>
                <a:chExt cx="1146240" cy="701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799240" y="3208320"/>
                  <a:ext cx="10033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 и более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27600" y="3208320"/>
                  <a:ext cx="11462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873840" y="3208320"/>
                <a:ext cx="682560" cy="701640"/>
                <a:chOff x="6873840" y="3208320"/>
                <a:chExt cx="682560" cy="701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945480" y="3208320"/>
                  <a:ext cx="539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873840" y="320832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556400" y="3208320"/>
                <a:ext cx="1146240" cy="701640"/>
                <a:chOff x="7556400" y="3208320"/>
                <a:chExt cx="1146240" cy="7016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628040" y="3208320"/>
                  <a:ext cx="10033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 и более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556400" y="3208320"/>
                  <a:ext cx="11462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1360" y="3909960"/>
                <a:ext cx="4603680" cy="701640"/>
                <a:chOff x="441360" y="3909960"/>
                <a:chExt cx="4603680" cy="7016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12640" y="3909960"/>
                  <a:ext cx="4461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 – 3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41360" y="3909960"/>
                  <a:ext cx="46036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045040" y="3909960"/>
                <a:ext cx="682560" cy="701640"/>
                <a:chOff x="5045040" y="3909960"/>
                <a:chExt cx="682560" cy="7016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116680" y="3909960"/>
                  <a:ext cx="539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45040" y="390996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27600" y="3909960"/>
                <a:ext cx="1146240" cy="701640"/>
                <a:chOff x="5727600" y="3909960"/>
                <a:chExt cx="1146240" cy="701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799240" y="3909960"/>
                  <a:ext cx="10033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3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27600" y="3909960"/>
                  <a:ext cx="11462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73840" y="3909960"/>
                <a:ext cx="682560" cy="701640"/>
                <a:chOff x="6873840" y="3909960"/>
                <a:chExt cx="682560" cy="7016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945480" y="3909960"/>
                  <a:ext cx="539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73840" y="390996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556400" y="3909960"/>
                <a:ext cx="1146240" cy="701640"/>
                <a:chOff x="7556400" y="3909960"/>
                <a:chExt cx="1146240" cy="701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628040" y="3909960"/>
                  <a:ext cx="10033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4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56400" y="3909960"/>
                  <a:ext cx="11462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1360" y="4611600"/>
                <a:ext cx="4603680" cy="702000"/>
                <a:chOff x="441360" y="4611600"/>
                <a:chExt cx="4603680" cy="70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12640" y="4611600"/>
                  <a:ext cx="44611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0 – 6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41360" y="4611600"/>
                  <a:ext cx="46036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045040" y="4611600"/>
                <a:ext cx="682560" cy="702000"/>
                <a:chOff x="5045040" y="4611600"/>
                <a:chExt cx="682560" cy="70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16680" y="4611600"/>
                  <a:ext cx="5396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045040" y="4611600"/>
                  <a:ext cx="6825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27600" y="4611600"/>
                <a:ext cx="1146240" cy="702000"/>
                <a:chOff x="5727600" y="4611600"/>
                <a:chExt cx="1146240" cy="70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799240" y="4611600"/>
                  <a:ext cx="10033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3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27600" y="4611600"/>
                  <a:ext cx="114624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873840" y="4611600"/>
                <a:ext cx="682560" cy="702000"/>
                <a:chOff x="6873840" y="4611600"/>
                <a:chExt cx="682560" cy="70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945480" y="4611600"/>
                  <a:ext cx="5396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6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873840" y="4611600"/>
                  <a:ext cx="6825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556400" y="4611600"/>
                <a:ext cx="1146240" cy="702000"/>
                <a:chOff x="7556400" y="4611600"/>
                <a:chExt cx="1146240" cy="70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628040" y="4611600"/>
                  <a:ext cx="10033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3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556400" y="4611600"/>
                  <a:ext cx="114624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41360" y="5313600"/>
                <a:ext cx="4603680" cy="701640"/>
                <a:chOff x="441360" y="5313600"/>
                <a:chExt cx="4603680" cy="7016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12640" y="5313600"/>
                  <a:ext cx="4461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0 – 10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1360" y="5313600"/>
                  <a:ext cx="46036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045040" y="5313600"/>
                <a:ext cx="682560" cy="701640"/>
                <a:chOff x="5045040" y="5313600"/>
                <a:chExt cx="682560" cy="701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116680" y="5313600"/>
                  <a:ext cx="539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8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045040" y="531360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27600" y="5313600"/>
                <a:ext cx="1146240" cy="701640"/>
                <a:chOff x="5727600" y="5313600"/>
                <a:chExt cx="1146240" cy="7016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799240" y="5313600"/>
                  <a:ext cx="10033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3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27600" y="5313600"/>
                  <a:ext cx="11462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873840" y="5313600"/>
                <a:ext cx="682560" cy="701640"/>
                <a:chOff x="6873840" y="5313600"/>
                <a:chExt cx="682560" cy="7016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945480" y="5313600"/>
                  <a:ext cx="539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73840" y="531360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556400" y="5313600"/>
                <a:ext cx="1146240" cy="701640"/>
                <a:chOff x="7556400" y="5313600"/>
                <a:chExt cx="1146240" cy="7016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628040" y="5313600"/>
                  <a:ext cx="10033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56400" y="5313600"/>
                  <a:ext cx="11462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7" name=""/>
            <p:cNvSpPr/>
            <p:nvPr/>
          </p:nvSpPr>
          <p:spPr>
            <a:xfrm>
              <a:off x="436680" y="1555920"/>
              <a:ext cx="8270640" cy="4464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304920"/>
            <a:ext cx="663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 уровня жизни и ценностные ориентации в зависимости от оценки материальных трудностей как помехи к желательной двухдетности у женщи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31040" y="63244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йд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1600200"/>
          <a:ext cx="7772400" cy="4294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431720"/>
                <a:gridCol w="1676520"/>
              </a:tblGrid>
              <a:tr h="61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ют ли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трудности иметь желаемое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ло детей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ня жизни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средний балл по шкале 0-100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имость (средний балл по пятибалльной шкале):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ица в значимости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ьного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получия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наличия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воих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детей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ьного благополуч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я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воих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детей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чень меша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ша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меша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9560" y="32076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 жилищных условий и ценностные ориентации в зависимости от оценки жилищных трудностей как помехи к желательной трехдетности у женщ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31040" y="63244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йд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1600200"/>
          <a:ext cx="7772400" cy="454032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76160"/>
                <a:gridCol w="1371600"/>
                <a:gridCol w="1676520"/>
              </a:tblGrid>
              <a:tr h="619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ют ли жилищные трудности иметь желаемое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ло детей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жилищных условий (средний балл по шкале 0-100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имость (средний балл по пятибалльной шкале):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ица в значимости собственного благоустроенного современного жилья и наличия троих детей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ного благоустроенного современного жилья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я троих детей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чень меша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ша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меша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79560" y="320760"/>
            <a:ext cx="78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ние о политике государства в отношении рождаемости (в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31040" y="63244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йд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1295280"/>
            <a:ext cx="7619760" cy="4267080"/>
            <a:chOff x="914400" y="1295280"/>
            <a:chExt cx="7619760" cy="4267080"/>
          </a:xfrm>
        </p:grpSpPr>
        <p:grpSp>
          <p:nvGrpSpPr>
            <p:cNvPr id="207" name=""/>
            <p:cNvGrpSpPr/>
            <p:nvPr/>
          </p:nvGrpSpPr>
          <p:grpSpPr>
            <a:xfrm>
              <a:off x="920520" y="1300680"/>
              <a:ext cx="7606080" cy="4255560"/>
              <a:chOff x="920520" y="1300680"/>
              <a:chExt cx="7606080" cy="425556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920520" y="1300680"/>
                <a:ext cx="5665680" cy="957240"/>
                <a:chOff x="920520" y="1300680"/>
                <a:chExt cx="5665680" cy="9572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943560" y="1300680"/>
                  <a:ext cx="561996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 каким из трех мнений Вы согласны в наибольшей степени?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920520" y="1300680"/>
                  <a:ext cx="566568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586560" y="1300680"/>
                <a:ext cx="1014480" cy="957240"/>
                <a:chOff x="6586560" y="1300680"/>
                <a:chExt cx="1014480" cy="95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609600" y="1300680"/>
                  <a:ext cx="96876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Жен</a:t>
                  </a:r>
                  <a:r>
                    <a:rPr b="0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щи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586560" y="1300680"/>
                  <a:ext cx="101448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601760" y="1300680"/>
                <a:ext cx="924840" cy="957240"/>
                <a:chOff x="7601760" y="1300680"/>
                <a:chExt cx="924840" cy="9572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624800" y="1300680"/>
                  <a:ext cx="87912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Муж-чин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601760" y="1300680"/>
                  <a:ext cx="92484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920520" y="2258280"/>
                <a:ext cx="5665680" cy="957240"/>
                <a:chOff x="920520" y="2258280"/>
                <a:chExt cx="5665680" cy="9572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943560" y="2258280"/>
                  <a:ext cx="561996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государство должно помочь семье иметь столько детей, сколько она сама хоч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920520" y="2258280"/>
                  <a:ext cx="566568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86560" y="2258280"/>
                <a:ext cx="1014480" cy="957240"/>
                <a:chOff x="6586560" y="2258280"/>
                <a:chExt cx="1014480" cy="957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609600" y="2258280"/>
                  <a:ext cx="96876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3,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86560" y="2258280"/>
                  <a:ext cx="101448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601760" y="2258280"/>
                <a:ext cx="924840" cy="957240"/>
                <a:chOff x="7601760" y="2258280"/>
                <a:chExt cx="924840" cy="957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624800" y="2258280"/>
                  <a:ext cx="87912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4,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601760" y="2258280"/>
                  <a:ext cx="92484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920520" y="3215880"/>
                <a:ext cx="5665680" cy="1382760"/>
                <a:chOff x="920520" y="3215880"/>
                <a:chExt cx="5665680" cy="138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943560" y="3215880"/>
                  <a:ext cx="5619960" cy="138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если число детей в семьях слишком мало, то государство должно попытаться заинтересовать семьи иметь большее число детей, создав, естественно, и необходимые условия для этого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920520" y="3215880"/>
                  <a:ext cx="5665680" cy="138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586560" y="3215880"/>
                <a:ext cx="1014480" cy="1382760"/>
                <a:chOff x="6586560" y="3215880"/>
                <a:chExt cx="1014480" cy="13827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609600" y="3215880"/>
                  <a:ext cx="968760" cy="138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8,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586560" y="3215880"/>
                  <a:ext cx="1014480" cy="138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601760" y="3215880"/>
                <a:ext cx="924840" cy="1382760"/>
                <a:chOff x="7601760" y="3215880"/>
                <a:chExt cx="924840" cy="13827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624800" y="3215880"/>
                  <a:ext cx="879120" cy="138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5,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01760" y="3215880"/>
                  <a:ext cx="924840" cy="138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920520" y="4599000"/>
                <a:ext cx="5665680" cy="957240"/>
                <a:chOff x="920520" y="4599000"/>
                <a:chExt cx="5665680" cy="957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943560" y="4599000"/>
                  <a:ext cx="561996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государство ни в коей степени и никаким образом не должно влиять на рождение в семьях того или иного числа детей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920520" y="4599000"/>
                  <a:ext cx="566568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6560" y="4599000"/>
                <a:ext cx="1014480" cy="957240"/>
                <a:chOff x="6586560" y="4599000"/>
                <a:chExt cx="1014480" cy="957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609600" y="4599000"/>
                  <a:ext cx="96876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,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586560" y="4599000"/>
                  <a:ext cx="101448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601760" y="4599000"/>
                <a:ext cx="924840" cy="957240"/>
                <a:chOff x="7601760" y="4599000"/>
                <a:chExt cx="924840" cy="9572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624800" y="4599000"/>
                  <a:ext cx="879120" cy="9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,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601760" y="4599000"/>
                  <a:ext cx="924840" cy="95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914400" y="1295280"/>
              <a:ext cx="7619760" cy="4267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34:45Z</dcterms:created>
  <dc:creator>Gribova</dc:creator>
  <dc:description/>
  <dc:language>en-US</dc:language>
  <cp:lastModifiedBy>User</cp:lastModifiedBy>
  <dcterms:modified xsi:type="dcterms:W3CDTF">2006-09-14T14:37:26Z</dcterms:modified>
  <cp:revision>62</cp:revision>
  <dc:subject/>
  <dc:title>Презентация PowerPoint</dc:title>
</cp:coreProperties>
</file>